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60A-0532-482A-A5FC-7C10DBDB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B56-0A2E-42C2-B09C-EB23FCC6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11F7-8CDA-4678-AE39-C5CD803D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5D2-F39A-4C7E-8822-17273551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1BD7-BC31-4085-ACD1-64ABCC27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204-89B5-424E-B5A9-46874938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FD7-2D76-4805-B349-CB6B079B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B59-0584-481B-B576-126A3113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BF42-F559-49CB-8D4A-363F1588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B55-F121-4348-A1B0-9329BA1E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35C-BF3A-4D9E-A4BB-3E025AF3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E9D-CFFB-4742-A00F-8D405CC7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D7E5E-BCBD-4415-A033-F824EE456A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E7D49-49FE-4699-934B-65751801D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What type of reaction is this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aCo</a:t>
            </a:r>
            <a:r>
              <a:rPr b="0" lang="en-US" sz="5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 CaO +CO</a:t>
            </a:r>
            <a:r>
              <a:rPr b="0" lang="en-US" sz="5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ard G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alibri"/>
              </a:rPr>
              <a:t>9.3 pH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H Scale measures the concentration of hydrogen ions, [H+]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cids have a pH between: 0 and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ases have a pH between: 7 and 1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 natural substance has a pH of 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0" t="0" r="0" b="37301"/>
          <a:stretch/>
        </p:blipFill>
        <p:spPr>
          <a:xfrm>
            <a:off x="136440" y="2476440"/>
            <a:ext cx="88711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13:06Z</dcterms:created>
  <dc:creator>Caroline Roth</dc:creator>
  <dc:description/>
  <dc:language>en-US</dc:language>
  <cp:lastModifiedBy>Caroline Roth</cp:lastModifiedBy>
  <dcterms:modified xsi:type="dcterms:W3CDTF">2011-04-10T19:19:00Z</dcterms:modified>
  <cp:revision>1</cp:revision>
  <dc:subject/>
  <dc:title>Do Now</dc:title>
</cp:coreProperties>
</file>